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2682538" cy="71310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 Light"/>
              </a:rPr>
              <a:t>Click to move the slide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CE3B4D-DB64-4968-8606-C21DA46F3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42A907-3158-40F4-BE6D-50621B2C0F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D537A3-D01B-4514-AABD-40B327C388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EAD16A-4CE7-4A32-9BDC-F146AB7545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5CD151-859D-428C-A8A5-62AF8793B4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25DD3A-1131-468B-855B-079A8CFBD9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8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733F-DD56-4575-A95B-65332EA85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71200" y="426276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EA67-5C4B-4536-BE9E-E17F07AA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7568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29A3-8F3B-481B-A2FB-82109AD63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6948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26776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7120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6948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26776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C373-5FDF-4D7E-8D3C-DD840EDED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9CC1-D217-4928-86D7-8F1F3989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9679-EE84-4AA8-BAE3-F5C665FC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3A85-D21D-4A2D-940E-7C9339CE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C60C-97CE-49ED-BCE7-BA97A9EE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71200" y="379440"/>
            <a:ext cx="1093788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8113-BC80-4083-83E9-D783C21A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A7DA-66CE-4E01-9D32-80AC7BAA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7568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4E45-0633-4FF4-A0F6-7E24BEE1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3212-8C49-4408-8E57-B66C34C8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118728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66356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71560" y="6610320"/>
            <a:ext cx="2852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00120" y="6610320"/>
            <a:ext cx="4280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956800" y="6610320"/>
            <a:ext cx="2852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1A2021-5A5B-4741-B0A9-EA76E26E648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39800" y="3133800"/>
            <a:ext cx="971388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4000" spc="-1" strike="noStrike">
                <a:solidFill>
                  <a:srgbClr val="ffffff"/>
                </a:solidFill>
                <a:latin typeface="Trebuchet MS"/>
              </a:rPr>
              <a:t>ZBRINJAVANJE DECE SA HENDIKEPOM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340000" y="5479920"/>
            <a:ext cx="80010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DOC. DR RA</a:t>
            </a:r>
            <a:r>
              <a:rPr b="1" lang="sr-Latn-RS" sz="3100" spc="-1" strike="noStrike">
                <a:solidFill>
                  <a:srgbClr val="f9a12a"/>
                </a:solidFill>
                <a:latin typeface="Trebuchet MS"/>
              </a:rPr>
              <a:t>Š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A </a:t>
            </a:r>
            <a:r>
              <a:rPr b="1" lang="en-US" sz="3100" spc="-1" strike="noStrike">
                <a:solidFill>
                  <a:srgbClr val="f9a12a"/>
                </a:solidFill>
                <a:latin typeface="Trebuchet MS"/>
              </a:rPr>
              <a:t>J. 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MLADENOVIĆ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0683720" y="2957400"/>
            <a:ext cx="609840" cy="23241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292400" y="317520"/>
            <a:ext cx="1066932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FAKULTET MEDICINSKIH NAUKA</a:t>
            </a:r>
            <a:br>
              <a:rPr sz="3100"/>
            </a:b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UNIVERZITET U KRAGUJEVCU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00120" y="1504800"/>
            <a:ext cx="971712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DEČJA</a:t>
            </a:r>
            <a:r>
              <a:rPr b="1" lang="en-US" sz="3600" spc="-1" strike="noStrike">
                <a:solidFill>
                  <a:srgbClr val="f9a12a"/>
                </a:solidFill>
                <a:latin typeface="Trebuchet MS"/>
              </a:rPr>
              <a:t> STOMATOLOGIJ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340000" y="6165720"/>
            <a:ext cx="80010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2600" spc="-1" strike="noStrike">
                <a:solidFill>
                  <a:srgbClr val="000000"/>
                </a:solidFill>
                <a:latin typeface="Trebuchet MS"/>
              </a:rPr>
              <a:t>MMXXII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1539720" y="1814400"/>
            <a:ext cx="1219320" cy="1003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: Rounded Corners 8"/>
          <p:cNvSpPr/>
          <p:nvPr/>
        </p:nvSpPr>
        <p:spPr>
          <a:xfrm>
            <a:off x="9617040" y="138240"/>
            <a:ext cx="2286000" cy="990360"/>
          </a:xfrm>
          <a:prstGeom prst="roundRect">
            <a:avLst>
              <a:gd name="adj" fmla="val 16667"/>
            </a:avLst>
          </a:prstGeom>
          <a:solidFill>
            <a:srgbClr val="f45e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rebuchet MS"/>
              </a:rPr>
              <a:t>14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1082520" y="474840"/>
            <a:ext cx="108680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400" spc="-1" strike="noStrike">
                <a:solidFill>
                  <a:srgbClr val="ffffff"/>
                </a:solidFill>
                <a:latin typeface="Trebuchet MS"/>
              </a:rPr>
              <a:t>ZBRINJAVANJE DECE SA HENDIKEPO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853920" y="1967040"/>
            <a:ext cx="59436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Cilj prve posete je da se utvrdi stanje oralnog zdravlja, higijene i procena rada rutinski ili u opštoj anesteziji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Primena pomoćnih sredstava je neophodna (specijalni fiksatori, naprstak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51272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FIZIČKI HENDIKEP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244440" y="1890720"/>
            <a:ext cx="68580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lvl="1" marL="1039680" indent="-44604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Jedini problem koji se može javiti je problem smeštanja u stomatološku stolicu (prelazak iz invalidskih kolica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082520" y="474840"/>
            <a:ext cx="108331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pl-PL" sz="4300" spc="-1" strike="noStrike">
                <a:solidFill>
                  <a:srgbClr val="ffffff"/>
                </a:solidFill>
                <a:latin typeface="Trebuchet MS"/>
              </a:rPr>
              <a:t>HENDIKEPOM U KOMUNIKACIJI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320760" y="1814400"/>
            <a:ext cx="662940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lvl="1" marL="1039680" indent="-44604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Zbrinjavaju se kao i zdrava dec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Neophodno je imati dovoljno strpljenja i u komunikaciji uključiti treće li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Najlakše je tretirati pacijente sa govornim manama ili tikovim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6286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MENTALNI HENDIKEP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4776840" y="1814400"/>
            <a:ext cx="697392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lvl="1" marL="887400" indent="-34272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Predstavlja najveći izazov i problem stomatolog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887400" indent="-34272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Najbitnije je dobiti naklonost i simpatij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887400" indent="-34272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Deca Daunovim sindromom se mogu tretirati ambulantno uz primenu lokalne anestezij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887400" indent="-34272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Neophodno je prisustvo pratioc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887400" indent="-34272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887400" indent="-34272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1:47:34Z</dcterms:created>
  <dc:creator>Rale</dc:creator>
  <dc:description/>
  <dc:language>en-US</dc:language>
  <cp:lastModifiedBy>kompjuterash</cp:lastModifiedBy>
  <dcterms:modified xsi:type="dcterms:W3CDTF">2023-02-17T17:08:18Z</dcterms:modified>
  <cp:revision>1522</cp:revision>
  <dc:subject/>
  <dc:title>RTG U DEČJOJ STOMATOLOGIJI</dc:title>
</cp:coreProperties>
</file>